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8860817"/>
        <c:axId val="26423637"/>
      </c:barChart>
      <c:catAx>
        <c:axId val="3886081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423637"/>
        <c:crosses val="autoZero"/>
        <c:auto val="1"/>
        <c:lblAlgn val="ctr"/>
        <c:lblOffset val="100"/>
        <c:noMultiLvlLbl val="0"/>
      </c:catAx>
      <c:valAx>
        <c:axId val="2642363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86081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D85BF-5408-41E1-BB59-1DFC5E51E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086AC-8A3B-4913-9A04-F805B7A3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2585C-63DB-4321-B1B0-FB0D06EB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C8457-ED4B-42DB-97B5-06D135EA9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B43CE-195B-4A30-9BC0-C1FA28066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909A7-DDD3-4F2B-897B-8BECA09AE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850D3-586E-4124-A338-7F9C1A121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D038D-9E32-4D29-AFE7-3BD4A0DFF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94784-3487-46B7-8E5B-CB49607E3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66C52-4890-4E31-AAD9-C410D21F3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52BF1-8FC1-48AE-8851-8965191A5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653D-DBD5-497D-8BDB-4F3A22D32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35E77-8C30-425C-B7E3-9783C3582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3D92-647C-40BB-BDB3-0A64E2720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90B5A-CF53-4FDA-95A1-C562980C6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D839E-C8DE-4F4A-9214-319EBE6AB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B05D3-BE34-47C9-8FF5-BD17A43CC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52A66-1CB5-4E00-9F11-3A6602273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380C2-E463-43DD-927D-F3363AD7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AEAE-B388-451A-A174-A9D2D1BDA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C0586-C69F-4669-873A-988CB9193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22C3-86FE-4E37-8607-BC77CF77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158D-5524-491B-8816-2F0AF96E6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34E0-9562-4265-AF71-4B1E48F03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56B68-DF50-4D78-8A22-66575751C7E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3CA0A-6AA3-4EC5-AC85-006F6A61BEF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